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81D0-274B-41C8-969D-CD82C918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F1E-5007-4688-BCCE-1D5DE4C2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FAF-643D-40A5-AD1F-3EFCEC88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EE3-8D7C-4636-A82D-FEE482C0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067-36FE-418D-AF53-94F55BB5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342B-52B8-42C5-B2B7-36F61DAA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4DB-EF9C-4C3F-AF6F-EEA56A02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CF3-991A-4CF9-A6AC-0128C1BE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DA4-4E06-465C-A419-9D70804F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32A-7918-464F-BFAF-F8F72E87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5F6-9344-4DC9-AE14-4B2A717F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1FA-24B9-475E-BDEF-64E3FC14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5AEC-526F-4847-985E-88ACDC09B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532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Showcard Gothic"/>
              </a:rPr>
              <a:t>garai hartan zeuden mapa guztiak irakurri zituen. Indiara iristeko irrikaz zegoen, paraje haietan aberastasun handia zegoelak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Showcard Gothic"/>
              </a:rPr>
              <a:t>Urrian San Salvador uhartera iritsi zen lehenengo aldiz. berak jakin gabe, Mundu Berria aurkitu baitzuen: Ameri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4619520"/>
            <a:ext cx="4681440" cy="2238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35640" y="4027320"/>
            <a:ext cx="28083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3:05:02Z</dcterms:created>
  <dc:creator>ik015111zz</dc:creator>
  <dc:description/>
  <dc:language>en-US</dc:language>
  <cp:lastModifiedBy>Ik015111zz</cp:lastModifiedBy>
  <dcterms:modified xsi:type="dcterms:W3CDTF">2012-05-17T13:07:09Z</dcterms:modified>
  <cp:revision>13</cp:revision>
  <dc:subject/>
  <dc:title>Kolonen biografia</dc:title>
</cp:coreProperties>
</file>